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06B1-7310-427A-BBF6-5892F243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B4A5-5662-42F6-96C7-8CECC3DB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C2C7-69F0-4A72-B9B5-017173D1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8CD0-D879-4E17-B336-A6B62F4C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CE07-132D-410B-9561-60FE8AA9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9574-3760-4E36-87DF-84D5D3C5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EF3A-BBCA-41D0-AC4A-3AF47F8C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3EC1-27B4-4E9F-A7CC-1A1198AE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A276-46F0-4396-B873-61FED64F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CF5D-35CE-486E-B53C-656DA3E0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649E-3897-4900-A0F7-9FB68811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92FF-D524-45A3-B0FF-00B788AA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0FD6-4DD6-45DD-91FE-AAD08A46E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ld English Text MT"/>
              </a:rPr>
              <a:t>Dropping Of The Atomic Bombs On Ja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ld English Text MT"/>
              </a:rPr>
              <a:t>By: Brandon and J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Old English Text MT"/>
              </a:rPr>
              <a:t>When and Where it Happe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895120" y="3962160"/>
            <a:ext cx="6248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Atomic bomb was dropped on Hiroshima on Monday, August 6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, 19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econd Atomic bomb was dropped on Nagasaki on August 9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,19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Old English Text MT"/>
              </a:rPr>
              <a:t>Who Dropped it and Who Helped Make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atomic bomb was tested in New Mexico and Ariz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mb was dropped by the United States of America Air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mb had to be cleared to be dropped by the Joint Chiefs of Staff of the War Depar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Old English Text MT"/>
              </a:rPr>
              <a:t>Who Had a Big Role in The Bomb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ed states did most of the work for the bombing of Jap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did have some help from the soviet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ggest role the united states played in the bombing was the actual bombing itself and the making of the bomb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Why is The Event Memora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tomic bombing in Japan is a memorable moment because pearl harbor was right before the bombing in Japan happen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me of the veterans who survived pearl harbor, they might of taken this as reve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ld English Text MT"/>
              </a:rPr>
              <a:t>Why is This Relevant to WW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mbings on Japan were relevant to World War 2 because in WWII the Japanese attacked pearl harbor which got United States into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pearl harbor incident didn’t happen, the bombings on Japan would not of been relevant to World War 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ld English Text MT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 1- Gettyimag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 2 - Gettyimag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 3 - Gettyimag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 4 - Gettyimag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 5 - Gettyimag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 6- Gettyimag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 1 -www.worldbook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 2 -Bombing of Hiroshima-Encycloped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 3 -www.icon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5:14:01Z</dcterms:created>
  <dc:creator>41251</dc:creator>
  <dc:description/>
  <dc:language>en-US</dc:language>
  <cp:lastModifiedBy>Safe Internet</cp:lastModifiedBy>
  <dcterms:modified xsi:type="dcterms:W3CDTF">2005-02-01T04:22:00Z</dcterms:modified>
  <cp:revision>7</cp:revision>
  <dc:subject/>
  <dc:title>Dropping Of The Atomic Bombs On Japan</dc:title>
</cp:coreProperties>
</file>